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rrow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B263-D606-4F31-A4BE-1982EA1D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D17-E536-4604-A623-E04FD95A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C7AA-90E3-4D6C-BFCD-CD91D104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FE5B-71A0-41CE-81C1-7D379C35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0032-3976-4F82-BDB1-D61FE7EE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2B9-476C-4742-9EA3-7B814630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DDC-7101-47A1-9F85-A0B6A34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9B3-7492-49AA-85CF-77B17DBA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640-497D-470B-8EFD-A51D826A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8AF-CD6E-41B3-968F-99336C4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5A24-A1FD-42B7-9E8C-12B905D4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397C-5B70-48BB-9065-A369369F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3DE0-A0B0-4B75-B084-A633C9A89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Earthquak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By: Erick Vi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Focus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pperplate Gothic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</a:rPr>
              <a:t>Is the 100 kilometers of earths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S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re seismic waves that vibrate from side to side as well as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P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re seismic waves that compress and expand the  ground like accord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Types of st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Tension: It pulls on curst, stretching rock so that it becomes thinner in the mid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Compression: It squeezes rock until it folds or br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Shearing: It pushes a mass of rock in two opposite direc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Kinds of Fa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Normal Faults: Tension in earths crust pulls rock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Reverse faults: in places where the rock of the crust is push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Strike-slip faults: In places where plates move past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8108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Foot w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The rock that below is called foot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19520" y="2924280"/>
            <a:ext cx="5248080" cy="3933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 rot="10685400">
            <a:off x="799920" y="3575520"/>
            <a:ext cx="186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http://bullard.esc.cam.ac.uk/~jh468/photos/greece%2012.04/uplift%20on%20perakora%20penninsula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Anti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 fold in rock that bends upward into an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50799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sync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A fold in rock that bends downward to form a valley is an syn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pperplate Gothic Bold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pperplate Gothic Bold"/>
              </a:rPr>
              <a:t>Is a large area of flat land elevated high above sea level is an plat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Hanging wall</a:t>
            </a: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The block of rock that lies above is called hanging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pperplate Gothic Bold"/>
              </a:rPr>
              <a:t>Earthquak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pperplate Gothic Bold"/>
              </a:rPr>
              <a:t>Is  the shaking and trembling that results from the movement of rock beneath the earths surface is an earthqu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9:12:18Z</dcterms:created>
  <dc:creator>erickvicente</dc:creator>
  <dc:description/>
  <dc:language>en-US</dc:language>
  <cp:lastModifiedBy>erickvicente</cp:lastModifiedBy>
  <dcterms:modified xsi:type="dcterms:W3CDTF">2008-02-11T19:33:54Z</dcterms:modified>
  <cp:revision>7</cp:revision>
  <dc:subject/>
  <dc:title>Earthquakes</dc:title>
</cp:coreProperties>
</file>